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jpeg" ContentType="image/jpeg"/>
  <Override PartName="/ppt/media/image1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414-845B-4688-93A0-F2957680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013-6AD3-4A11-AFDD-EFF990AD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1B8-9245-4B0C-8AA5-040F8817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7C1-EB7E-4098-8893-7D819B62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68F2-B8ED-474E-8C92-C8CBEE5F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D28D-D5CE-4032-BB14-BDFDC4F4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62A6-27D6-4AB5-8895-4691E95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4714-A9E9-4E8D-8E25-97C19CE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6155-7ACD-41A9-9A1B-88C3777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80F5-53E1-4773-AF72-8B125F1E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23F6-813B-4557-BA92-863A1DD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B09-9B17-4811-8105-5FEBB73B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18CE-2825-4798-B7F6-F9E41394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55B9-F6E5-4473-926C-35CD47F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DBBA-0BB7-4464-8FA1-6751C90D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13CA-0480-4B7F-9C53-F612F854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7887-B793-49B8-BDD8-8C19B3AB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9F629-D5C6-40F1-AD02-126FD309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2839A-D264-424A-8646-DFFC1586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CBD39-B446-4514-B100-0FAFA55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04949-5268-442A-B986-5AC3883C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B2819-0A03-4D96-88C2-610E4924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6C7-8BEF-469E-8FC0-6C26E626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74D31-FF40-4457-B3D5-A6725FF2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A7BC0-ED2F-4570-BC69-F753DC2F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4EABB-8AB5-451C-9BE9-EF025F6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E95FC-9DDC-4D9F-ADCD-82130C9A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83FC5-4686-4713-929C-A1C92BE6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63648-3592-4740-8AD7-B6F490A6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B0069-A040-4EC8-888B-6FE245C7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014-7407-4795-92CA-15321326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3AD-D54E-4813-B59B-2DCDC8F9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04E-19FE-43B1-ADDD-E5F4856E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246-8352-435B-A190-8EBB86BA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667-A9D9-499C-81AC-BDC7F25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DCC-893A-445F-8C30-19A93504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7C49-C87B-4DE2-8BB4-23E37A98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0AB0-2E9E-442B-BFFE-DCADFFA89A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8329-54E4-484E-9055-3274AFEA88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ecausebeta.files.wordpress.com/2008/02/brain-small.jpg&amp;imgrefurl=http://becausebeta.wordpress.com/2008/02/20/thought-controlled-computers-a-reality/&amp;h=300&amp;w=300&amp;sz=25&amp;hl=en&amp;start=27&amp;usg=__4ien0uSxpl0EBfGcRE2wWt3R4r0=&amp;tbnid=rmI3aOgpKZFZsM:&amp;tbnh=116&amp;tbnw=116&amp;prev=/images%3Fq%3Dthe%2Bbrain%26start%3D18%26gbv%3D2%26ndsp%3D18%26hl%3Den%26safe%3Dactive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cast.org/teachingeverystudent/ideas/tes/chapter2.cfm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2133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ert Meeting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ter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71800"/>
            <a:ext cx="9144000" cy="703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Some type of informal men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orship whereby what is known by the most experienced is passed along to novi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200400"/>
            <a:ext cx="8458200" cy="398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W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ere members believe that their contributions mat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666880"/>
            <a:ext cx="9144000" cy="1008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vantGarde"/>
              </a:rPr>
              <a:t>Where me</a:t>
            </a:r>
            <a:r>
              <a:rPr b="0" lang="en" sz="2000" spc="-1" strike="noStrike">
                <a:solidFill>
                  <a:srgbClr val="ff0000"/>
                </a:solidFill>
                <a:latin typeface="AvantGarde"/>
              </a:rPr>
              <a:t>m</a:t>
            </a:r>
            <a:r>
              <a:rPr b="0" lang="en" sz="2000" spc="-1" strike="noStrike">
                <a:solidFill>
                  <a:srgbClr val="ffffff"/>
                </a:solidFill>
                <a:latin typeface="AvantGarde"/>
              </a:rPr>
              <a:t>bers feel some degree of social connection with one another (at the least they care what other people thin</a:t>
            </a:r>
            <a:r>
              <a:rPr b="0" lang="en" sz="2000" spc="-1" strike="noStrike">
                <a:solidFill>
                  <a:srgbClr val="ff0000"/>
                </a:solidFill>
                <a:latin typeface="AvantGarde"/>
              </a:rPr>
              <a:t>k</a:t>
            </a:r>
            <a:r>
              <a:rPr b="0" lang="en" sz="2000" spc="-1" strike="noStrike">
                <a:solidFill>
                  <a:srgbClr val="ffffff"/>
                </a:solidFill>
                <a:latin typeface="AvantGarde"/>
              </a:rPr>
              <a:t> about what they have create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791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2171880" cy="347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381400" cy="301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ticipatory Culture on the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rticipatory Culture in the classro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iversal Desi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1904760" cy="1457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581280" y="5029200"/>
            <a:ext cx="1981440" cy="1447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1981080" cy="1440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00400" y="2057400"/>
            <a:ext cx="2590920" cy="1828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380880"/>
            <a:ext cx="87631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ver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 Design for Learning (UD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33560" cy="1218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54" name="" descr="Book Cover: Teaching Every Student"/>
          <p:cNvPicPr/>
          <p:nvPr/>
        </p:nvPicPr>
        <p:blipFill>
          <a:blip r:embed="rId2"/>
          <a:stretch/>
        </p:blipFill>
        <p:spPr>
          <a:xfrm>
            <a:off x="3505320" y="3581280"/>
            <a:ext cx="2057400" cy="2590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17880" y="569880"/>
            <a:ext cx="100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82800" y="2286000"/>
            <a:ext cx="3228840" cy="1922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UD</a:t>
            </a:r>
            <a:r>
              <a:rPr b="0" lang="en-US" sz="12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96280" cy="531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04920" y="5943600"/>
            <a:ext cx="457200" cy="6620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62040"/>
              <a:gd name="textAreaBottom" fmla="*/ 632520 h 662040"/>
            </a:gdLst>
            <a:ahLst/>
            <a:rect l="textAreaLeft" t="textAreaTop" r="textAreaRight" b="textAreaBottom"/>
            <a:pathLst>
              <a:path w="21600" h="31270">
                <a:moveTo>
                  <a:pt x="0" y="0"/>
                </a:moveTo>
                <a:lnTo>
                  <a:pt x="21600" y="0"/>
                </a:lnTo>
                <a:lnTo>
                  <a:pt x="21600" y="31270"/>
                </a:lnTo>
                <a:lnTo>
                  <a:pt x="0" y="31270"/>
                </a:lnTo>
                <a:close/>
              </a:path>
              <a:path fill="lightenLess" w="21600" h="31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70">
                <a:moveTo>
                  <a:pt x="21600" y="0"/>
                </a:moveTo>
                <a:lnTo>
                  <a:pt x="21600" y="31270"/>
                </a:lnTo>
                <a:lnTo>
                  <a:pt x="20200" y="29870"/>
                </a:lnTo>
                <a:lnTo>
                  <a:pt x="20200" y="1400"/>
                </a:lnTo>
                <a:close/>
              </a:path>
              <a:path fill="darkenLess" w="21600" h="31270">
                <a:moveTo>
                  <a:pt x="21600" y="31270"/>
                </a:moveTo>
                <a:lnTo>
                  <a:pt x="0" y="31270"/>
                </a:lnTo>
                <a:lnTo>
                  <a:pt x="1400" y="29870"/>
                </a:lnTo>
                <a:lnTo>
                  <a:pt x="20200" y="29870"/>
                </a:lnTo>
                <a:close/>
              </a:path>
              <a:path fill="lighten" w="21600" h="31270">
                <a:moveTo>
                  <a:pt x="0" y="31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70"/>
                </a:lnTo>
                <a:close/>
              </a:path>
              <a:path fill="darken" w="21600" h="31270">
                <a:moveTo>
                  <a:pt x="3794" y="12136"/>
                </a:moveTo>
                <a:lnTo>
                  <a:pt x="4707" y="12136"/>
                </a:lnTo>
                <a:lnTo>
                  <a:pt x="5090" y="12502"/>
                </a:lnTo>
                <a:lnTo>
                  <a:pt x="14299" y="12502"/>
                </a:lnTo>
                <a:lnTo>
                  <a:pt x="14856" y="13059"/>
                </a:lnTo>
                <a:lnTo>
                  <a:pt x="14856" y="13607"/>
                </a:lnTo>
                <a:lnTo>
                  <a:pt x="16701" y="13607"/>
                </a:lnTo>
                <a:lnTo>
                  <a:pt x="17067" y="13059"/>
                </a:lnTo>
                <a:lnTo>
                  <a:pt x="17806" y="13059"/>
                </a:lnTo>
                <a:lnTo>
                  <a:pt x="17806" y="18211"/>
                </a:lnTo>
                <a:lnTo>
                  <a:pt x="17067" y="18211"/>
                </a:lnTo>
                <a:lnTo>
                  <a:pt x="16701" y="17663"/>
                </a:lnTo>
                <a:lnTo>
                  <a:pt x="14856" y="17663"/>
                </a:lnTo>
                <a:lnTo>
                  <a:pt x="14856" y="18942"/>
                </a:lnTo>
                <a:lnTo>
                  <a:pt x="5273" y="18942"/>
                </a:lnTo>
                <a:lnTo>
                  <a:pt x="5273" y="14712"/>
                </a:lnTo>
                <a:lnTo>
                  <a:pt x="5090" y="14712"/>
                </a:lnTo>
                <a:lnTo>
                  <a:pt x="4707" y="15078"/>
                </a:lnTo>
                <a:lnTo>
                  <a:pt x="3794" y="1507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do we know about the brain and diverse learn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335772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uccessful meaning making depends on the complex interaction of overlapp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333760" cy="4419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295280" y="56386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come (Back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236000" y="4941720"/>
            <a:ext cx="129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4905360"/>
            <a:ext cx="208764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4913280"/>
            <a:ext cx="208728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67280" y="4868280"/>
            <a:ext cx="1944720" cy="1989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5013360"/>
            <a:ext cx="1800000" cy="1844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5084640"/>
            <a:ext cx="1871640" cy="1773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333360"/>
            <a:ext cx="2881440" cy="25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5640" y="76500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is distributed across three interconnected brai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00000" y="2276640"/>
            <a:ext cx="259236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35640" y="2924280"/>
            <a:ext cx="504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0000" y="2997360"/>
            <a:ext cx="64764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4437000"/>
            <a:ext cx="208764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05200"/>
            <a:ext cx="201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gnition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 and Analyz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4581360"/>
            <a:ext cx="208728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4869000"/>
            <a:ext cx="153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and Execution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4581360"/>
            <a:ext cx="2051280" cy="201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486900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260280"/>
            <a:ext cx="172872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33360"/>
            <a:ext cx="190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Learning Link: 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236000" y="4941720"/>
            <a:ext cx="129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4905360"/>
            <a:ext cx="208764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4913280"/>
            <a:ext cx="208728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067280" y="4868280"/>
            <a:ext cx="1944720" cy="1989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5013360"/>
            <a:ext cx="1800000" cy="1844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084640"/>
            <a:ext cx="1871640" cy="1773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219640" y="333360"/>
            <a:ext cx="2881440" cy="25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5640" y="76500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is distributed across three interconnected brai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00000" y="2276640"/>
            <a:ext cx="259236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435640" y="2924280"/>
            <a:ext cx="504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5164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2997360"/>
            <a:ext cx="64764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437000"/>
            <a:ext cx="2087640" cy="19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4705200"/>
            <a:ext cx="201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gnition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 and Analyz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4581360"/>
            <a:ext cx="2087280" cy="19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7640" y="4869000"/>
            <a:ext cx="153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ic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and Execution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48360" y="4581360"/>
            <a:ext cx="2051280" cy="201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486900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fectiv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and Set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260280"/>
            <a:ext cx="172872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333360"/>
            <a:ext cx="190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Link: 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372360" y="4869000"/>
            <a:ext cx="117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ES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1844640" cy="1933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527280" cy="3816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When meeting the needs of a Diverse Group of Learners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Do We…</a:t>
            </a:r>
            <a:r>
              <a:rPr b="1" lang="en-US" sz="33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844640"/>
            <a:ext cx="71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Fix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urriculu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263700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5584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484280"/>
            <a:ext cx="3671640" cy="37450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Fix”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chil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84000" y="2133720"/>
            <a:ext cx="2879640" cy="23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4581360"/>
            <a:ext cx="1800360" cy="17272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236000" y="5084640"/>
            <a:ext cx="108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es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0"/>
            <a:ext cx="842472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 can we support divers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strategic</a:t>
            </a:r>
            <a:r>
              <a:rPr b="0" lang="en-US" sz="4000" spc="-1" strike="noStrike">
                <a:solidFill>
                  <a:srgbClr val="ffffff"/>
                </a:solidFill>
                <a:latin typeface="Rockwell Extra Bol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recogn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affecti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etworks 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 rot="388200">
            <a:off x="3276720" y="4047480"/>
            <a:ext cx="3841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791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380880"/>
            <a:ext cx="838224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hat about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“di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erentiation?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w tech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igh te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76520" y="22860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achmen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4000" y="836640"/>
            <a:ext cx="84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dividualizing the ways that students work toward goals is feasible if a variety of tools and media are availabl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0720" y="-152280"/>
            <a:ext cx="7391160" cy="79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a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ite…Kid Favou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a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3341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Free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2514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changefromthemargin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kispa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295280"/>
            <a:ext cx="7238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you 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re of Your Bea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762120"/>
            <a:ext cx="861048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 in any revolution, students (and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ucators!) in the margins are likely to lead the way, precipitating s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ts in thinking that will open vast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portunities for educational refor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e &amp; Me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202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Parting Thoughts…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Scorn Not His Simplicity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(Lyrics Phil Coulter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981000"/>
            <a:ext cx="259236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rather try to love him all the mor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nly he knows how to face the future hopefull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urrounded by despair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e won't ask for your pity or your sympathy;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surely you should care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rather try to love him all the more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562040"/>
            <a:ext cx="3095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ee the child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ith the golden hair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Yet eyes that show the emptiness insid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Do we know..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Can we understand just 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ow he feels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r have we really tried 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ee him now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As he stands alone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And watches children play a children's gam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imple child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He looks almost like the others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Yet they know he's not the same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But rather try to love him all the more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corn not his simplicity,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h no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ee him stare..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Not recognizing the kind face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hat only yesterday he loved.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he loving face of a mother </a:t>
            </a:r>
            <a:br>
              <a:rPr sz="1200"/>
            </a:b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ho can't understand what she's been guilty of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Provincial Outreach Program for Fetal Alcohol Spectrum Disorder (POPFASD)"/>
          <p:cNvPicPr/>
          <p:nvPr/>
        </p:nvPicPr>
        <p:blipFill>
          <a:blip r:embed="rId1"/>
          <a:stretch/>
        </p:blipFill>
        <p:spPr>
          <a:xfrm>
            <a:off x="304920" y="990720"/>
            <a:ext cx="8334360" cy="13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4952880" cy="2590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838080"/>
            <a:ext cx="853452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s (and educators!), “on the m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ns” can actually lead the way to true reform because they help us understand the w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nesses in our educational system and curricula 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 impede teaching and learning for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vid Rose &amp; Anne Meyer (C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articipatory C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tur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b 2.0/3.0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637720"/>
            <a:ext cx="8534520" cy="219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 li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in a deluge of choices. In almost every area of life, Americans have a wider freedom of ch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ce today than ever in our history, including new kinds of jobs, new foods, new religions, new technologies, and new forms of com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ication and interaction. (Microtrends. p.xvi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2286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514600"/>
            <a:ext cx="8991720" cy="398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relatively low barriers to art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stic expression and civic engagement</a:t>
            </a:r>
            <a:r>
              <a:rPr b="0" lang="en-US" sz="1800" spc="-1" strike="noStrike">
                <a:solidFill>
                  <a:srgbClr val="ffffff"/>
                </a:solidFill>
                <a:latin typeface="AvantGar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68580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ticipatory 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19520"/>
            <a:ext cx="914400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"/>
              </a:rPr>
              <a:t>strong support for creating and sharing one’s creations with others</a:t>
            </a:r>
            <a:r>
              <a:rPr b="0" lang="en-US" sz="2400" spc="-1" strike="noStrike">
                <a:solidFill>
                  <a:srgbClr val="ffffff"/>
                </a:solidFill>
                <a:latin typeface="Antique Olive Co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55:38Z</dcterms:created>
  <dc:creator>user</dc:creator>
  <dc:description/>
  <dc:language>en-US</dc:language>
  <cp:lastModifiedBy>user</cp:lastModifiedBy>
  <dcterms:modified xsi:type="dcterms:W3CDTF">2010-01-21T18:45:42Z</dcterms:modified>
  <cp:revision>23</cp:revision>
  <dc:subject/>
  <dc:title>Accessible Learning</dc:title>
</cp:coreProperties>
</file>